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A4D224-293A-4F95-B0B1-C1F781F6BB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F88B17-E1FD-4BF3-9882-5226A36035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E2615C-7529-426A-9A79-BCE10B2558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1F9620-5038-4179-B69F-5BD2E95B52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146909-5A7D-4CBF-982F-7BD12A5AA21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2768E0-494C-4BBD-8651-7F7AD436282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D0DD5C-13F0-4125-8811-4A2A1434E0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3882DB-CBBD-4771-AE6B-61F145C4E5B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65DC86-1D6A-43EF-80EA-CEF95F5B2C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7436CD-6F76-4D6B-A80C-18CD2FBED6A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B0522C-6BF5-4A42-83C8-83765C74E3C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CD043-76E3-4C94-A270-AFF06BC184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D190F-6D8B-40EE-865D-8331113298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9CF1FB-C1C9-4443-813D-7F5F7BE4E8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46D92-E892-4C06-AA2E-37C91E3128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1AE7D-319B-47F2-AC55-31DD0D5055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5DCE-1237-4BD4-AC6B-9238D56A0E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5C5A0-159B-4334-8F54-61137D3435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1D9E4D-9A14-43DB-81D3-BD792D0434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94A6D63-3A15-4B46-AABB-33786880BB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0B621-0324-4F26-9A81-7312817D8F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95871-F302-44D0-A2EA-0C259E4CC3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E104A-F3FA-4ECC-A7DF-418DEE7E0A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A1908-D5BB-4CD8-8C56-311C0E43766A}"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1.png"/><Relationship Id="rId11" Type="http://schemas.openxmlformats.org/officeDocument/2006/relationships/hyperlink" Target="http://images.google.com/imgres?imgurl=http://i95.photobucket.com/albums/l153/Sakura413/Benvolio.jpg&amp;imgrefurl=http://www.gaiaonline.com/forum/barton-ooc/forbidden-love-of-star-cross-d-lovers-profile-thread/t.49537907/&amp;usg=__48x0xn8DeOEMurM4MFmaLgB5b6Y=&amp;h=400&amp;w=372&amp;sz=49&amp;hl=en&amp;start=7&amp;um=1&amp;itbs=1&amp;tbnid=8Vc92-my2oH-vM:&amp;tbnh=124&amp;tbnw=115&amp;prev=/images%3Fq%3DBenvolio%26um%3D1%26hl%3Den%26safe%3Dstrict%26tbs%3Disch:1" TargetMode="External"/><Relationship Id="rId12" Type="http://schemas.openxmlformats.org/officeDocument/2006/relationships/image" Target="../media/image3.jpeg"/><Relationship Id="rId13" Type="http://schemas.openxmlformats.org/officeDocument/2006/relationships/hyperlink" Target="http://images.google.com/imgres?imgurl=http://i95.photobucket.com/albums/l153/Sakura413/Benvolio.jpg&amp;imgrefurl=http://www.gaiaonline.com/forum/barton-ooc/forbidden-love-of-star-cross-d-lovers-profile-thread/t.49537907/&amp;usg=__48x0xn8DeOEMurM4MFmaLgB5b6Y=&amp;h=400&amp;w=372&amp;sz=49&amp;hl=en&amp;start=7&amp;um=1&amp;itbs=1&amp;tbnid=8Vc92-my2oH-vM:&amp;tbnh=124&amp;tbnw=115&amp;prev=/images%3Fq%3DBenvolio%26um%3D1%26hl%3Den%26safe%3Dstrict%26tbs%3Disch:1" TargetMode="External"/><Relationship Id="rId14" Type="http://schemas.openxmlformats.org/officeDocument/2006/relationships/image" Target="../media/image3.jpeg"/><Relationship Id="rId15" Type="http://schemas.openxmlformats.org/officeDocument/2006/relationships/image" Target="../media/image4.jpeg"/><Relationship Id="rId16" Type="http://schemas.openxmlformats.org/officeDocument/2006/relationships/hyperlink" Target="http://www.google.com/imgres?imgurl=http://www.comedyfessional.com/images/funny-guy-point.jpg&amp;imgrefurl=http://www.comedyfessional.com/sponsorships.html&amp;usg=__gtl3mP0n8CPx3RmI1FP_usR82NE=&amp;h=300&amp;w=300&amp;sz=104&amp;hl=en&amp;start=23&amp;itbs=1&amp;tbnid=kRfReN7pnLEDNM:&amp;tbnh=116&amp;tbnw=116&amp;prev=/images%3Fq%3Dfunny%2Bguy%26start%3D20%26hl%3Den%26safe%3Dstrict%26sa%3DN%26gbv%3D2%26ndsp%3D20%26tbs%3Disch:1" TargetMode="External"/><Relationship Id="rId17" Type="http://schemas.openxmlformats.org/officeDocument/2006/relationships/image" Target="../media/image5.jpeg"/><Relationship Id="rId18" Type="http://schemas.openxmlformats.org/officeDocument/2006/relationships/slideLayout" Target="../slideLayouts/slideLayout1.xml"/><Relationship Id="rId1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hyperlink" Target="http://www.bbc.co.uk/herefordandworcester/content/images/2005/07/11/fight_one_420x284.jpg" TargetMode="External"/><Relationship Id="rId9" Type="http://schemas.openxmlformats.org/officeDocument/2006/relationships/image" Target="../media/image7.jpeg"/><Relationship Id="rId10" Type="http://schemas.openxmlformats.org/officeDocument/2006/relationships/image" Target="../media/image4.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6.xml"/><Relationship Id="rId6" Type="http://schemas.openxmlformats.org/officeDocument/2006/relationships/image" Target="../media/image9.jpeg"/><Relationship Id="rId7" Type="http://schemas.openxmlformats.org/officeDocument/2006/relationships/slide" Target="slide7.xml"/><Relationship Id="rId8" Type="http://schemas.openxmlformats.org/officeDocument/2006/relationships/image" Target="../media/image10.jpeg"/><Relationship Id="rId9" Type="http://schemas.openxmlformats.org/officeDocument/2006/relationships/hyperlink" Target="http://www.google.com/imgres?imgurl=http://ayebeclear.com/scoop/wp-content/gallery/mila-kunis/mila-kunis-2.jpg&amp;imgrefurl=http://milakunispicturescomprehendit.typepad.com/&amp;usg=__BN-LJ-SFz4vZzpSHLuXRogASZW4=&amp;h=600&amp;w=540&amp;sz=67&amp;hl=en&amp;start=9&amp;itbs=1&amp;tbnid=bEwumm7U-3fWdM:&amp;tbnh=135&amp;tbnw=122&amp;prev=/images%3Fq%3Dmila%2Bkunis%26hl%3Den%26safe%3Dstrict%26gbv%3D2%26tbs%3Disch:1" TargetMode="External"/><Relationship Id="rId10" Type="http://schemas.openxmlformats.org/officeDocument/2006/relationships/image" Target="../media/image11.jpeg"/><Relationship Id="rId11" Type="http://schemas.openxmlformats.org/officeDocument/2006/relationships/image" Target="../media/image1.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ayebeclear.com/scoop/wp-content/gallery/mila-kunis/mila-kunis-2.jpg&amp;imgrefurl=http://milakunispicturescomprehendit.typepad.com/&amp;usg=__BN-LJ-SFz4vZzpSHLuXRogASZW4=&amp;h=600&amp;w=540&amp;sz=67&amp;hl=en&amp;start=9&amp;itbs=1&amp;tbnid=bEwumm7U-3fWdM:&amp;tbnh=135&amp;tbnw=122&amp;prev=/images%3Fq%3Dmila%2Bkunis%26hl%3Den%26safe%3Dstrict%26gbv%3D2%26tbs%3Disch:1" TargetMode="External"/><Relationship Id="rId6" Type="http://schemas.openxmlformats.org/officeDocument/2006/relationships/image" Target="../media/image11.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the party with Mercutio and Benvolio was awesome!</a:t>
            </a:r>
            <a:r>
              <a:rPr b="0" lang="en-US" sz="1000" spc="-1" strike="noStrike">
                <a:solidFill>
                  <a:srgbClr val="000000"/>
                </a:solidFill>
                <a:latin typeface="Arial"/>
              </a:rPr>
              <a:t>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endParaRPr b="0" lang="en-US" sz="12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a:t>
            </a:r>
            <a:r>
              <a:rPr b="0" lang="en-US" sz="900" spc="-1" strike="noStrike">
                <a:solidFill>
                  <a:srgbClr val="000000"/>
                </a:solidFill>
                <a:latin typeface="Arial"/>
              </a:rPr>
              <a:t>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endParaRPr b="0" lang="en-US" sz="12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447920" cy="304560"/>
        </p:xfrm>
        <a:graphic>
          <a:graphicData uri="http://schemas.openxmlformats.org/drawingml/2006/table">
            <a:tbl>
              <a:tblPr/>
              <a:tblGrid>
                <a:gridCol w="1447920"/>
              </a:tblGrid>
              <a:tr h="304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9" descr=""/>
          <p:cNvPicPr/>
          <p:nvPr/>
        </p:nvPicPr>
        <p:blipFill>
          <a:blip r:embed="rId5"/>
          <a:stretch/>
        </p:blipFill>
        <p:spPr>
          <a:xfrm>
            <a:off x="152280" y="5562720"/>
            <a:ext cx="438120" cy="609480"/>
          </a:xfrm>
          <a:prstGeom prst="rect">
            <a:avLst/>
          </a:prstGeom>
          <a:ln w="0">
            <a:noFill/>
          </a:ln>
        </p:spPr>
      </p:pic>
      <p:pic>
        <p:nvPicPr>
          <p:cNvPr id="92" name="Picture 60" descr="http://www.exposay.com/celebrity-photos/lil-romeo-nickelodeons-20th-annual-kids-choice-awards-wD9fUL.jpg"/>
          <p:cNvPicPr/>
          <p:nvPr/>
        </p:nvPicPr>
        <p:blipFill>
          <a:blip r:embed="rId6"/>
          <a:stretch/>
        </p:blipFill>
        <p:spPr>
          <a:xfrm>
            <a:off x="2057400" y="4419720"/>
            <a:ext cx="431640" cy="610920"/>
          </a:xfrm>
          <a:prstGeom prst="rect">
            <a:avLst/>
          </a:prstGeom>
          <a:ln w="0">
            <a:noFill/>
          </a:ln>
        </p:spPr>
      </p:pic>
      <p:pic>
        <p:nvPicPr>
          <p:cNvPr id="93" name="Picture 60" descr="http://www.exposay.com/celebrity-photos/lil-romeo-nickelodeons-20th-annual-kids-choice-awards-wD9fUL.jpg"/>
          <p:cNvPicPr/>
          <p:nvPr/>
        </p:nvPicPr>
        <p:blipFill>
          <a:blip r:embed="rId7"/>
          <a:stretch/>
        </p:blipFill>
        <p:spPr>
          <a:xfrm>
            <a:off x="2057400" y="2438280"/>
            <a:ext cx="431640" cy="611280"/>
          </a:xfrm>
          <a:prstGeom prst="rect">
            <a:avLst/>
          </a:prstGeom>
          <a:ln w="0">
            <a:noFill/>
          </a:ln>
        </p:spPr>
      </p:pic>
      <p:pic>
        <p:nvPicPr>
          <p:cNvPr id="94" name="Picture 60" descr="http://www.exposay.com/celebrity-photos/lil-romeo-nickelodeons-20th-annual-kids-choice-awards-wD9fUL.jpg"/>
          <p:cNvPicPr/>
          <p:nvPr/>
        </p:nvPicPr>
        <p:blipFill>
          <a:blip r:embed="rId8"/>
          <a:stretch/>
        </p:blipFill>
        <p:spPr>
          <a:xfrm>
            <a:off x="2057400" y="5105520"/>
            <a:ext cx="431640" cy="610920"/>
          </a:xfrm>
          <a:prstGeom prst="rect">
            <a:avLst/>
          </a:prstGeom>
          <a:ln w="0">
            <a:noFill/>
          </a:ln>
        </p:spPr>
      </p:pic>
      <p:pic>
        <p:nvPicPr>
          <p:cNvPr id="95" name="Picture 60" descr="http://www.exposay.com/celebrity-photos/lil-romeo-nickelodeons-20th-annual-kids-choice-awards-wD9fUL.jpg"/>
          <p:cNvPicPr/>
          <p:nvPr/>
        </p:nvPicPr>
        <p:blipFill>
          <a:blip r:embed="rId9"/>
          <a:stretch/>
        </p:blipFill>
        <p:spPr>
          <a:xfrm>
            <a:off x="2057400" y="5715000"/>
            <a:ext cx="431640" cy="611280"/>
          </a:xfrm>
          <a:prstGeom prst="rect">
            <a:avLst/>
          </a:prstGeom>
          <a:ln w="0">
            <a:noFill/>
          </a:ln>
        </p:spPr>
      </p:pic>
      <p:pic>
        <p:nvPicPr>
          <p:cNvPr id="96" name="Picture 59" descr=""/>
          <p:cNvPicPr/>
          <p:nvPr/>
        </p:nvPicPr>
        <p:blipFill>
          <a:blip r:embed="rId10"/>
          <a:stretch/>
        </p:blipFill>
        <p:spPr>
          <a:xfrm>
            <a:off x="2057400" y="3733920"/>
            <a:ext cx="438120" cy="609480"/>
          </a:xfrm>
          <a:prstGeom prst="rect">
            <a:avLst/>
          </a:prstGeom>
          <a:ln w="0">
            <a:noFill/>
          </a:ln>
        </p:spPr>
      </p:pic>
      <p:pic>
        <p:nvPicPr>
          <p:cNvPr id="97" name="Picture 64" descr="http://t1.gstatic.com/images?q=tbn:8Vc92-my2oH-vM:http://i95.photobucket.com/albums/l153/Sakura413/Benvolio.jpg">
            <a:hlinkClick r:id="rId11"/>
          </p:cNvPr>
          <p:cNvPicPr/>
          <p:nvPr/>
        </p:nvPicPr>
        <p:blipFill>
          <a:blip r:embed="rId12"/>
          <a:stretch/>
        </p:blipFill>
        <p:spPr>
          <a:xfrm>
            <a:off x="685800" y="5638680"/>
            <a:ext cx="541440" cy="424080"/>
          </a:xfrm>
          <a:prstGeom prst="rect">
            <a:avLst/>
          </a:prstGeom>
          <a:ln w="0">
            <a:noFill/>
          </a:ln>
        </p:spPr>
      </p:pic>
      <p:pic>
        <p:nvPicPr>
          <p:cNvPr id="98" name="Picture 64" descr="http://t1.gstatic.com/images?q=tbn:8Vc92-my2oH-vM:http://i95.photobucket.com/albums/l153/Sakura413/Benvolio.jpg">
            <a:hlinkClick r:id="rId13"/>
          </p:cNvPr>
          <p:cNvPicPr/>
          <p:nvPr/>
        </p:nvPicPr>
        <p:blipFill>
          <a:blip r:embed="rId14"/>
          <a:stretch/>
        </p:blipFill>
        <p:spPr>
          <a:xfrm>
            <a:off x="1981080" y="3124080"/>
            <a:ext cx="541440" cy="424080"/>
          </a:xfrm>
          <a:prstGeom prst="rect">
            <a:avLst/>
          </a:prstGeom>
          <a:ln w="0">
            <a:noFill/>
          </a:ln>
        </p:spPr>
      </p:pic>
      <p:pic>
        <p:nvPicPr>
          <p:cNvPr id="99" name="Picture 60" descr="http://www.exposay.com/celebrity-photos/lil-romeo-nickelodeons-20th-annual-kids-choice-awards-wD9fUL.jpg"/>
          <p:cNvPicPr/>
          <p:nvPr/>
        </p:nvPicPr>
        <p:blipFill>
          <a:blip r:embed="rId15"/>
          <a:stretch/>
        </p:blipFill>
        <p:spPr>
          <a:xfrm>
            <a:off x="380880" y="380880"/>
            <a:ext cx="1013040" cy="1433520"/>
          </a:xfrm>
          <a:prstGeom prst="rect">
            <a:avLst/>
          </a:prstGeom>
          <a:ln w="0">
            <a:noFill/>
          </a:ln>
        </p:spPr>
      </p:pic>
      <p:pic>
        <p:nvPicPr>
          <p:cNvPr id="100" name="Picture 59" descr="funny-guy-point">
            <a:hlinkClick r:id="rId16"/>
          </p:cNvPr>
          <p:cNvPicPr/>
          <p:nvPr/>
        </p:nvPicPr>
        <p:blipFill>
          <a:blip r:embed="rId17"/>
          <a:stretch/>
        </p:blipFill>
        <p:spPr>
          <a:xfrm>
            <a:off x="1295280" y="5638680"/>
            <a:ext cx="571680" cy="571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endParaRPr b="0" lang="en-US" sz="14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Hanging out with my friends, Benvolio, and Mercutio.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 fights, the ladies, Grand Theft Aut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ACDC, T.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ransformers,  Saving Private Ryan, Drill –bit Taylo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Ultimate Fighter, Tool Academy,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don’t read…unless it’s a Sports Illustrated article</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y hom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Awesome Due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123)456-7890</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7" descr=""/>
          <p:cNvPicPr/>
          <p:nvPr/>
        </p:nvPicPr>
        <p:blipFill>
          <a:blip r:embed="rId7"/>
          <a:stretch/>
        </p:blipFill>
        <p:spPr>
          <a:xfrm>
            <a:off x="152280" y="5396040"/>
            <a:ext cx="685800" cy="509400"/>
          </a:xfrm>
          <a:prstGeom prst="rect">
            <a:avLst/>
          </a:prstGeom>
          <a:ln w="0">
            <a:noFill/>
          </a:ln>
        </p:spPr>
      </p:pic>
      <p:pic>
        <p:nvPicPr>
          <p:cNvPr id="141" name="Picture 48" descr="">
            <a:hlinkClick r:id="rId8"/>
          </p:cNvPr>
          <p:cNvPicPr/>
          <p:nvPr/>
        </p:nvPicPr>
        <p:blipFill>
          <a:blip r:embed="rId9"/>
          <a:stretch/>
        </p:blipFill>
        <p:spPr>
          <a:xfrm>
            <a:off x="152280" y="6172200"/>
            <a:ext cx="663840" cy="453960"/>
          </a:xfrm>
          <a:prstGeom prst="rect">
            <a:avLst/>
          </a:prstGeom>
          <a:ln w="0">
            <a:noFill/>
          </a:ln>
        </p:spPr>
      </p:pic>
      <p:pic>
        <p:nvPicPr>
          <p:cNvPr id="142" name="Picture 60" descr="http://www.exposay.com/celebrity-photos/lil-romeo-nickelodeons-20th-annual-kids-choice-awards-wD9fUL.jpg"/>
          <p:cNvPicPr/>
          <p:nvPr/>
        </p:nvPicPr>
        <p:blipFill>
          <a:blip r:embed="rId10"/>
          <a:stretch/>
        </p:blipFill>
        <p:spPr>
          <a:xfrm>
            <a:off x="380880" y="380880"/>
            <a:ext cx="1013040" cy="143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that nasty Tybalt texted me last night about You.  He thinks he is so tough, but he is wrong!!  If you don’t do something about this, I will. Here it 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Romeo is bout to get treat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 ok whatever you think</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Dude, he aint got nothing on me homi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I aint your homie and I bet he will whoop yo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Ok tell him that I will meet him any time, and any plac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k but if he doesn’t fight you than I wil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Ok, I really don’t have a problem with you but I don’t care I could take both of you.</a:t>
            </a:r>
            <a:endParaRPr b="0" lang="en-US" sz="1100" spc="-1" strike="noStrike">
              <a:solidFill>
                <a:srgbClr val="ffffff"/>
              </a:solidFill>
              <a:latin typeface="Arial"/>
            </a:endParaRPr>
          </a:p>
        </p:txBody>
      </p:sp>
      <p:sp>
        <p:nvSpPr>
          <p:cNvPr id="157" name="Text Box 16"/>
          <p:cNvSpPr/>
          <p:nvPr/>
        </p:nvSpPr>
        <p:spPr>
          <a:xfrm>
            <a:off x="533520" y="4114800"/>
            <a:ext cx="5638680" cy="1968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e and my nigh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Ok so I know I wasn’t being very manly last night but I don’t care because I had a great night. I finally listened to my friends and found a new girl because they said I was too attached to Rosaline. I didn’t think I was but who cares anymore? I know I don’t because my life is so much better. I just wonder if things will work out between me and her. I know I will love her and all but I don’t know if she will love me or if my friends will like her. I know I ditched my friends at the dance but I personally think it was worth it. I’m sorry Benvolio and Mercutio. I still had fun and I hope you guys did too.</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0" descr="http://www.exposay.com/celebrity-photos/lil-romeo-nickelodeons-20th-annual-kids-choice-awards-wD9fUL.jpg"/>
          <p:cNvPicPr/>
          <p:nvPr/>
        </p:nvPicPr>
        <p:blipFill>
          <a:blip r:embed="rId5"/>
          <a:stretch/>
        </p:blipFill>
        <p:spPr>
          <a:xfrm>
            <a:off x="228600" y="533520"/>
            <a:ext cx="582480" cy="823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I love you</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r Crazy!</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0" name="Picture 63" descr=""/>
          <p:cNvPicPr/>
          <p:nvPr/>
        </p:nvPicPr>
        <p:blipFill>
          <a:blip r:embed="rId6"/>
          <a:stretch/>
        </p:blipFill>
        <p:spPr>
          <a:xfrm>
            <a:off x="304920" y="5257800"/>
            <a:ext cx="1160280" cy="1219320"/>
          </a:xfrm>
          <a:prstGeom prst="rect">
            <a:avLst/>
          </a:prstGeom>
          <a:ln w="0">
            <a:noFill/>
          </a:ln>
        </p:spPr>
      </p:pic>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7"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dude</a:t>
            </a:r>
            <a:endParaRPr b="0" lang="en-US" sz="1200" spc="-1" strike="noStrike">
              <a:solidFill>
                <a:srgbClr val="ffffff"/>
              </a:solidFill>
              <a:latin typeface="Arial"/>
            </a:endParaRPr>
          </a:p>
        </p:txBody>
      </p:sp>
      <p:pic>
        <p:nvPicPr>
          <p:cNvPr id="182" name="Picture 60" descr="http://www.exposay.com/celebrity-photos/lil-romeo-nickelodeons-20th-annual-kids-choice-awards-wD9fUL.jpg"/>
          <p:cNvPicPr/>
          <p:nvPr/>
        </p:nvPicPr>
        <p:blipFill>
          <a:blip r:embed="rId8"/>
          <a:stretch/>
        </p:blipFill>
        <p:spPr>
          <a:xfrm>
            <a:off x="304920" y="533520"/>
            <a:ext cx="796680" cy="1128600"/>
          </a:xfrm>
          <a:prstGeom prst="rect">
            <a:avLst/>
          </a:prstGeom>
          <a:ln w="0">
            <a:noFill/>
          </a:ln>
        </p:spPr>
      </p:pic>
      <p:pic>
        <p:nvPicPr>
          <p:cNvPr id="183" name="Picture 30" descr="mila-kunis-2">
            <a:hlinkClick r:id="rId9"/>
          </p:cNvPr>
          <p:cNvPicPr/>
          <p:nvPr/>
        </p:nvPicPr>
        <p:blipFill>
          <a:blip r:embed="rId10"/>
          <a:stretch/>
        </p:blipFill>
        <p:spPr>
          <a:xfrm>
            <a:off x="228600" y="1981080"/>
            <a:ext cx="1162080" cy="1285920"/>
          </a:xfrm>
          <a:prstGeom prst="rect">
            <a:avLst/>
          </a:prstGeom>
          <a:ln w="0">
            <a:noFill/>
          </a:ln>
        </p:spPr>
      </p:pic>
      <p:pic>
        <p:nvPicPr>
          <p:cNvPr id="184" name="Picture 18" descr=""/>
          <p:cNvPicPr/>
          <p:nvPr/>
        </p:nvPicPr>
        <p:blipFill>
          <a:blip r:embed="rId11"/>
          <a:stretch/>
        </p:blipFill>
        <p:spPr>
          <a:xfrm>
            <a:off x="457200" y="3505320"/>
            <a:ext cx="846000" cy="1176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523880" y="1905120"/>
            <a:ext cx="64008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don’t even know why I am writing this to you when you’re probably not going to get this in a while, and I’m probably not going to see you ever again. Why did you have to go and kill my cousin and get banished? Now my parents are making me marry Paris, but I just want to be with you. I don’t want to be with anyone else. I wish you could stay here and be with me. I just want to see you one more time before I have to marry Paris. I don’t want to marry Paris and I wish my parents would know that. I wish they would understand that I love you and only you. I wish you were here right now. I can’t go much longer without you, I might actually kill myself. Everything would be much better. Everything would be much easier than it is now.</a:t>
            </a:r>
            <a:endParaRPr b="0" lang="en-US" sz="1800" spc="-1" strike="noStrike">
              <a:solidFill>
                <a:srgbClr val="ffffff"/>
              </a:solidFill>
              <a:latin typeface="Arial"/>
            </a:endParaRPr>
          </a:p>
        </p:txBody>
      </p:sp>
      <p:pic>
        <p:nvPicPr>
          <p:cNvPr id="199" name="Picture 20" descr="mila-kunis-2">
            <a:hlinkClick r:id="rId5"/>
          </p:cNvPr>
          <p:cNvPicPr/>
          <p:nvPr/>
        </p:nvPicPr>
        <p:blipFill>
          <a:blip r:embed="rId6"/>
          <a:stretch/>
        </p:blipFill>
        <p:spPr>
          <a:xfrm>
            <a:off x="304920" y="1905120"/>
            <a:ext cx="1162080" cy="1285920"/>
          </a:xfrm>
          <a:prstGeom prst="rect">
            <a:avLst/>
          </a:prstGeom>
          <a:ln w="0">
            <a:noFill/>
          </a:ln>
        </p:spPr>
      </p:pic>
      <p:pic>
        <p:nvPicPr>
          <p:cNvPr id="200" name="Picture 60" descr="http://www.exposay.com/celebrity-photos/lil-romeo-nickelodeons-20th-annual-kids-choice-awards-wD9fUL.jpg"/>
          <p:cNvPicPr/>
          <p:nvPr/>
        </p:nvPicPr>
        <p:blipFill>
          <a:blip r:embed="rId7"/>
          <a:stretch/>
        </p:blipFill>
        <p:spPr>
          <a:xfrm>
            <a:off x="304920" y="457200"/>
            <a:ext cx="796680" cy="1128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523880" y="1676520"/>
            <a:ext cx="6400800" cy="261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Craz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r crazy! Dude why would you ditch me and benvolio to go be with your little girlfriend. That aint cool man. I am happy that you aren’t obsessed with that little Rosaline girl because she is not right for you. I really don’t think that this is going to work between you and that Capulet girl. You guys are from two different houses. I bet her mom and dad wouldn’t like you that much haha. Anyways, I really think that I, you, and benvolio should go crash another party except without all that stupid love drama. Just us bros. Man that Juliet girl is good lookin though. Better than Rosaline that’s for sure. But I really don’t even think that you should try because its just gunna start a fight between the Montague’s and the Capulet’s, and it sure won’t be pretty. I have a feeling that your gunna try really hard to get with her than something bad is gunna happen but for now I am happy for you.</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215" name="TextBox 26"/>
          <p:cNvSpPr/>
          <p:nvPr/>
        </p:nvSpPr>
        <p:spPr>
          <a:xfrm>
            <a:off x="1600200" y="4952880"/>
            <a:ext cx="6400800" cy="27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Crazy</a:t>
            </a:r>
            <a:r>
              <a:rPr b="0" lang="en-US" sz="1200" spc="-1" strike="noStrike">
                <a:solidFill>
                  <a:srgbClr val="000000"/>
                </a:solidFill>
                <a:latin typeface="Arial"/>
              </a:rPr>
              <a:t>Wow dude that party was awesome and I am glad that I listened to you and got over Rosaline. I guess that it just wasn’t meant to be and never will be. I am glad that are happy for me but I really don’t think you have anything to worry about I got everything under control. At least I think I do. The good thing is that we both like each other. I know she likes me and she knows that I like her. I don’t think I got to worry though because if we can not be together, we still will anyways. We love each other already. Anyways, I do agree that we should go crash some parties together. Even though I was not with you guys most of the party I still had fun. We never get to hang out that much and it would be good to hang out every once in a while. But seriously I will be fin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16" name="Picture 60" descr="http://www.exposay.com/celebrity-photos/lil-romeo-nickelodeons-20th-annual-kids-choice-awards-wD9fUL.jpg"/>
          <p:cNvPicPr/>
          <p:nvPr/>
        </p:nvPicPr>
        <p:blipFill>
          <a:blip r:embed="rId3"/>
          <a:stretch/>
        </p:blipFill>
        <p:spPr>
          <a:xfrm>
            <a:off x="228600" y="457200"/>
            <a:ext cx="851040" cy="1204920"/>
          </a:xfrm>
          <a:prstGeom prst="rect">
            <a:avLst/>
          </a:prstGeom>
          <a:ln w="0">
            <a:noFill/>
          </a:ln>
        </p:spPr>
      </p:pic>
      <p:pic>
        <p:nvPicPr>
          <p:cNvPr id="217" name="Picture 18" descr=""/>
          <p:cNvPicPr/>
          <p:nvPr/>
        </p:nvPicPr>
        <p:blipFill>
          <a:blip r:embed="rId4"/>
          <a:stretch/>
        </p:blipFill>
        <p:spPr>
          <a:xfrm>
            <a:off x="533520" y="1752480"/>
            <a:ext cx="933480" cy="1295640"/>
          </a:xfrm>
          <a:prstGeom prst="rect">
            <a:avLst/>
          </a:prstGeom>
          <a:ln w="0">
            <a:noFill/>
          </a:ln>
        </p:spPr>
      </p:pic>
      <p:pic>
        <p:nvPicPr>
          <p:cNvPr id="218" name="Picture 60" descr="http://www.exposay.com/celebrity-photos/lil-romeo-nickelodeons-20th-annual-kids-choice-awards-wD9fUL.jpg"/>
          <p:cNvPicPr/>
          <p:nvPr/>
        </p:nvPicPr>
        <p:blipFill>
          <a:blip r:embed="rId5"/>
          <a:stretch/>
        </p:blipFill>
        <p:spPr>
          <a:xfrm>
            <a:off x="533520" y="5029200"/>
            <a:ext cx="1012680" cy="1433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1"/>
          <a:stretch/>
        </p:blipFill>
        <p:spPr>
          <a:xfrm>
            <a:off x="228600" y="457200"/>
            <a:ext cx="768240" cy="106668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Romeo about finding a new girl.  Come on, we both know he doesn’t really love Rosaline.  He is just obsessed with her.  Tonight, after he sees all the chicks dancing in their dresses, he will forget Rosaline even exists and find a new girl to stalk, and I will win the bet.  So, should I swing by soon to pick you up?  </a:t>
            </a:r>
            <a:endParaRPr b="0" lang="en-US" sz="1200" spc="-1" strike="noStrike">
              <a:solidFill>
                <a:srgbClr val="ffffff"/>
              </a:solidFill>
              <a:latin typeface="Arial"/>
            </a:endParaRPr>
          </a:p>
        </p:txBody>
      </p:sp>
      <p:pic>
        <p:nvPicPr>
          <p:cNvPr id="234" name="Picture 63" descr=""/>
          <p:cNvPicPr/>
          <p:nvPr/>
        </p:nvPicPr>
        <p:blipFill>
          <a:blip r:embed="rId2"/>
          <a:stretch/>
        </p:blipFill>
        <p:spPr>
          <a:xfrm>
            <a:off x="0" y="1752480"/>
            <a:ext cx="1812960" cy="1905120"/>
          </a:xfrm>
          <a:prstGeom prst="rect">
            <a:avLst/>
          </a:prstGeom>
          <a:ln w="0">
            <a:noFill/>
          </a:ln>
        </p:spPr>
      </p:pic>
      <p:pic>
        <p:nvPicPr>
          <p:cNvPr id="235" name="Picture 18" descr=""/>
          <p:cNvPicPr/>
          <p:nvPr/>
        </p:nvPicPr>
        <p:blipFill>
          <a:blip r:embed="rId3"/>
          <a:stretch/>
        </p:blipFill>
        <p:spPr>
          <a:xfrm>
            <a:off x="304920" y="4343400"/>
            <a:ext cx="1206360" cy="1676520"/>
          </a:xfrm>
          <a:prstGeom prst="rect">
            <a:avLst/>
          </a:prstGeom>
          <a:ln w="0">
            <a:noFill/>
          </a:ln>
        </p:spPr>
      </p:pic>
      <p:sp>
        <p:nvSpPr>
          <p:cNvPr id="236"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nds good man.  I’ll be here, but we will probably have to force Romeo to stop sulking in the corner like a whiny baby.    Maybe I’ll look up a new joke or two to entertain him!  Either way, we are going to rock ou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01</cp:lastModifiedBy>
  <dcterms:modified xsi:type="dcterms:W3CDTF">2010-04-30T19:37:11Z</dcterms:modified>
  <cp:revision>58</cp:revision>
  <dc:subject/>
  <dc:title>Profile</dc:title>
</cp:coreProperties>
</file>